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AC6-BADB-4877-BFEF-99E919B9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445-1BFA-4293-8207-DD9E558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8ED-2AA7-45C1-AE8C-D90001CB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C10-BBB1-4602-A3F7-C89ADE7D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614-BE2F-4A17-A01D-97D622E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D2B-A890-493D-B445-CA89D400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F76-53A5-4E68-A28E-E06296F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D42-8E81-4CDB-83E5-9EDEE12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3F9-CF06-4CB1-88EF-CA6CE42A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A81-2F6A-4150-B0C4-6B15FF7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B4D-9246-4CA5-B1E0-EC4AB8E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306-CF2A-4A37-A0BC-84BCAC3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D768-0A2D-43B9-8249-2879B30A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C/constable/constable26.html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abcgallery.com/C/constable/constable3.html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abcgallery.com/C/constable/constable29.htm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abcgallery.com/C/constable/constable1.html" TargetMode="External"/><Relationship Id="rId9" Type="http://schemas.openxmlformats.org/officeDocument/2006/relationships/hyperlink" Target="http://www.abcgallery.com/C/constable/constable26.html" TargetMode="External"/><Relationship Id="rId10" Type="http://schemas.openxmlformats.org/officeDocument/2006/relationships/hyperlink" Target="http://www.abcgallery.com/C/constable/constable26.html" TargetMode="External"/><Relationship Id="rId11" Type="http://schemas.openxmlformats.org/officeDocument/2006/relationships/hyperlink" Target="http://www.abcgallery.com/C/constable/constable26.html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C/constable/constable4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abcgallery.com/C/constable/constable7.html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C/constable/constable1.html" TargetMode="External"/><Relationship Id="rId3" Type="http://schemas.openxmlformats.org/officeDocument/2006/relationships/hyperlink" Target="http://www.abcgallery.com/C/constable/constable26.html" TargetMode="External"/><Relationship Id="rId4" Type="http://schemas.openxmlformats.org/officeDocument/2006/relationships/hyperlink" Target="http://www.abcgallery.com/C/constable/constable26.html" TargetMode="External"/><Relationship Id="rId5" Type="http://schemas.openxmlformats.org/officeDocument/2006/relationships/hyperlink" Target="http://www.abcgallery.com/C/constable/constable26.html" TargetMode="External"/><Relationship Id="rId6" Type="http://schemas.openxmlformats.org/officeDocument/2006/relationships/hyperlink" Target="http://www.abcgallery.com/C/constable/constable3.html" TargetMode="External"/><Relationship Id="rId7" Type="http://schemas.openxmlformats.org/officeDocument/2006/relationships/hyperlink" Target="http://www.abcgallery.com/C/constable/constable4.html" TargetMode="External"/><Relationship Id="rId8" Type="http://schemas.openxmlformats.org/officeDocument/2006/relationships/hyperlink" Target="http://www.abcgallery.com/C/constable/constable7.html" TargetMode="External"/><Relationship Id="rId9" Type="http://schemas.openxmlformats.org/officeDocument/2006/relationships/hyperlink" Target="http://www.abcgallery.com/C/constable/constable10.html" TargetMode="External"/><Relationship Id="rId10" Type="http://schemas.openxmlformats.org/officeDocument/2006/relationships/hyperlink" Target="http://www.abcgallery.com/C/constable/constable10.html" TargetMode="External"/><Relationship Id="rId11" Type="http://schemas.openxmlformats.org/officeDocument/2006/relationships/hyperlink" Target="http://www.abcgallery.com/C/constable/constable33.html" TargetMode="External"/><Relationship Id="rId12" Type="http://schemas.openxmlformats.org/officeDocument/2006/relationships/hyperlink" Target="http://www.abcgallery.com/C/constable/constable11.html" TargetMode="External"/><Relationship Id="rId13" Type="http://schemas.openxmlformats.org/officeDocument/2006/relationships/hyperlink" Target="http://www.abcgallery.com/C/constable/constable11.html" TargetMode="External"/><Relationship Id="rId14" Type="http://schemas.openxmlformats.org/officeDocument/2006/relationships/hyperlink" Target="http://www.abcgallery.com/C/constable/constable24.html" TargetMode="External"/><Relationship Id="rId15" Type="http://schemas.openxmlformats.org/officeDocument/2006/relationships/hyperlink" Target="http://www.abcgallery.com/C/constable/constable10.html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abcgallery.com/C/constable/constable24.html" TargetMode="External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T/turner/turner1.html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abcgallery.com/T/turner/turner3.html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T/turner/turner26.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abcgallery.com/T/turner/turner36.html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bcgallery.com/T/turner/turner47.html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abcgallery.com/T/turner/turner14.html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00000"/>
                </a:solidFill>
                <a:latin typeface="Lucida Blackletter"/>
              </a:rPr>
              <a:t>English Pro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Blackletter"/>
              </a:rPr>
              <a:t>John Con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Blackletter"/>
              </a:rPr>
              <a:t>Produ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Vivaldi"/>
              </a:rPr>
              <a:t>Andrea Albane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1422360" cy="1727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3645000"/>
            <a:ext cx="6400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Lucida Blackletter"/>
              </a:rPr>
              <a:t>William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2708280"/>
            <a:ext cx="432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lackletter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25388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Lucida Blackletter"/>
              </a:rPr>
              <a:t>John Cons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was Born at East Bergholt, Suffolk, and he was the son of a prosperous corn mercha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spents several years in the family business before deciding, and obtaining permission, to study painting full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was educated at Dedham Grammar School, where he distinguished himself more by his draughtsmanship than his scholarshi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047760" cy="410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5734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Blackletter"/>
              </a:rPr>
              <a:t>John Co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266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e committed himself to a career as an artist only in 1799, when he joined the Royal Academy School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1796-1798 he took lessons from John Thomas Smith and later from George Frost, who supported his love of landscape painting and encouraged him to study Gainsborough's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333360"/>
            <a:ext cx="2291040" cy="2830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4292640"/>
            <a:ext cx="3960720" cy="234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19640" y="404640"/>
            <a:ext cx="227304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32000" y="32846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dham Va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'A Church Porch' (The Church Porch, East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ergholt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084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Dedham Vale: Morn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1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3311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Constable worked extensively in the open air, drawing and sketching in oils, but his finished pictures were produced in the studi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e followed the unusual technical procedure of making a full-size oil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333360"/>
            <a:ext cx="265608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3645000"/>
            <a:ext cx="2881440" cy="2433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2276640"/>
            <a:ext cx="1871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andscape: Boys Fish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Boatbuild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4174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is most notable picture of his early work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Dedham Va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0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'A Church Porch' (The Church Porch, East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erghol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0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Dedham Vale: Morn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Landscape: Boys Fish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3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Boatbuild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Wivenhoe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 Par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Weymouth Ba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Flatford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 Mi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 died on 31st of March, 1837 working on his last pictur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omic Sans MS"/>
                <a:hlinkClick r:id="rId14"/>
              </a:rPr>
              <a:t>Arundel Mill and Cast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83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48360" y="620640"/>
            <a:ext cx="3746520" cy="200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48360" y="3789360"/>
            <a:ext cx="3746520" cy="216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2781360"/>
            <a:ext cx="33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Wivenhoe Park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6021360"/>
            <a:ext cx="3384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Arundel Mill and Cast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183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Lucida Blackletter"/>
              </a:rPr>
              <a:t>William T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Joseph Mallord William Turner was born in London, England, on April 23, 1775. His father was a barber and his mother died when he was very you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The boy received little schooling.By the age of 13 he was making drawings at home and exhibiting them in his father's shop window for sale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When he was 15 years old he received a rare honor: one of his paintings was exhibited at the Royal Academy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3282840" cy="437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08720" y="57340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Blackletter"/>
              </a:rPr>
              <a:t>William 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381636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e quickly achieved a fine reputation and was elected an associate of the Royal Acade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In 1802, when he was only 27, Turner became a full member. He then began travelling widely in Europe. Venice was the inspiration of some of Turner's finest wor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rner's seemingly effortless watercolours and oil sketches were based on impressions of natur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333360"/>
            <a:ext cx="3319560" cy="2489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3716280"/>
            <a:ext cx="3349800" cy="2355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19640" y="29973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Fishermen at sea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, 17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616572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The Shipwreck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, 18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Turner left a large fortune that he hoped would be used to support what he called "decaying artists”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His collection of paintings was bequeathed to his country. At his request he was buried in St. Paul's Cathedra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765000"/>
            <a:ext cx="3956040" cy="223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4005360"/>
            <a:ext cx="339264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859280" y="3213000"/>
            <a:ext cx="3745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Rain</a:t>
            </a:r>
            <a:r>
              <a:rPr b="0" i="1" lang="en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Steam and Speed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, 18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87700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Arundel Castle,with Rainbow,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8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906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Some of his most famous work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Fishermen at sea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, 17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Shipwreck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, 18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Rain</a:t>
            </a:r>
            <a:r>
              <a:rPr b="0" i="1" lang="en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Steam and Speed</a:t>
            </a: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, 18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Arundel Castle,with Rainbow,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8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Caligula's Palace and Bridge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183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Grand Canal, Venic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8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284640"/>
            <a:ext cx="3344760" cy="247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404640"/>
            <a:ext cx="3389400" cy="1846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872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aligula's Palace and Bridge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18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60213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The Grand Canal, Venic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18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29:26Z</dcterms:created>
  <dc:creator>Andrea Albanesi</dc:creator>
  <dc:description/>
  <dc:language>en-US</dc:language>
  <cp:lastModifiedBy>Andrea Albanesi</cp:lastModifiedBy>
  <dcterms:modified xsi:type="dcterms:W3CDTF">2009-03-25T13:45:28Z</dcterms:modified>
  <cp:revision>9</cp:revision>
  <dc:subject/>
  <dc:title>English Presentation</dc:title>
</cp:coreProperties>
</file>